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D316-9EA1-41EA-8E44-A97C498D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F873-AE37-4898-B046-B56F8296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2A8B-43E6-44D2-841D-210C6BEE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859E-BEA6-4CBE-9732-F84FF185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26CE-7A7B-4BF1-82DE-38603065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BBA0-7F87-48BD-A398-C1F800DA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4022-8CB8-405C-8E3E-AAADB5E1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F08F-4E10-4A21-9115-B0E2DCF4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7738-C9C9-4F10-911A-23F2FD47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16C-3EAC-4D94-915D-0EAD95FE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8425-AFD8-4F95-BA4D-2D6AF90C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EF03-D409-4D96-8129-2E719E34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73C8-C7DE-4FE9-80B2-61B221A45655}" type="slidenum">
              <a:rPr b="0" lang="ca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ff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249800">
            <a:off x="971280" y="-315720"/>
            <a:ext cx="7119720" cy="662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em  fet  merenga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ff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692280"/>
            <a:ext cx="6635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ngredie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c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ra  D’ 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ff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ecessitem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quil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ff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 es fa merenga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6985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sem en un plat les clares i el   sucre i batem molt ràpid fins que es posi consist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saltres fem a mereng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836880" cy="244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3816360" cy="2517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55640" y="4221000"/>
            <a:ext cx="3745080" cy="2303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003640" y="4221000"/>
            <a:ext cx="3816360" cy="225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08:54:37Z</dcterms:created>
  <dc:creator>argo</dc:creator>
  <dc:description/>
  <dc:language>en-US</dc:language>
  <cp:lastModifiedBy>argo</cp:lastModifiedBy>
  <dcterms:modified xsi:type="dcterms:W3CDTF">2009-06-12T07:46:17Z</dcterms:modified>
  <cp:revision>3</cp:revision>
  <dc:subject/>
  <dc:title>Diapositiva 1</dc:title>
</cp:coreProperties>
</file>